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2D8B-6F80-4D8F-8DC9-02CA68D2033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EC0-06D3-4CE4-8022-16FC3F54A8E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E4A-37EC-43E7-8F22-FFD25CAA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B92-81A0-415A-BE7C-0C6FDD4D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0A0-ABFA-4307-94A0-D73B5EEE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11A-B324-4FBC-A8AC-80807357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46C0-719D-4389-B15E-32A47042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920-AECA-4A40-9877-E1E1B757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8DBE-E032-4D17-823D-A072547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055C-8B28-4571-B3D7-CD64CCF4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D042-F082-4076-B9AB-99AF3C6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DC54-10EE-4B5D-8D00-08E550E2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1956-593F-4198-8904-D205D53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A83-9009-45DC-829C-3AC5EEA1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5084-BF39-44A8-9CB5-57DA2E7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0DB7-7B07-4132-810E-808DA02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E830-EAA3-441A-8D12-2365B872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D84-66BC-47F7-B50D-90FED0D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69F8-587E-4D4D-9839-7BD7CD78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A2-F4D6-4590-94D4-ABB8257B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117-4350-4890-AB92-F42479B4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82B-5665-4F7E-B1BD-47F24F6B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BF7-3973-4080-9D9A-FDA6FA8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591-91A2-49CC-A5BA-AADC6F1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D48-3D63-4894-8CAE-04ABD7FB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947-2E28-4303-8D14-4C0FE46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4C6-9CD8-45FC-8AD9-FCCEB75054CC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39AF-FF2A-492D-9833-2B3CBC8E6F14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89040" y="927000"/>
            <a:ext cx="8180280" cy="3784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85960" y="4285800"/>
            <a:ext cx="6400800" cy="924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72428"/>
                </a:solidFill>
                <a:latin typeface="Calibri"/>
              </a:rPr>
              <a:t>“</a:t>
            </a:r>
            <a:r>
              <a:rPr b="1" lang="en-ZA" sz="4000" spc="-1" strike="noStrike">
                <a:solidFill>
                  <a:srgbClr val="072428"/>
                </a:solidFill>
                <a:latin typeface="Calibri"/>
              </a:rPr>
              <a:t>A dog is man’s best friend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57120" y="1474920"/>
            <a:ext cx="22860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549000"/>
            <a:ext cx="2319480" cy="5111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Buy a </a:t>
            </a:r>
            <a:r>
              <a:rPr b="1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puppy</a:t>
            </a:r>
            <a:r>
              <a:rPr b="0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 and your money will buy love unflinching than cannot lie</a:t>
            </a:r>
            <a:r>
              <a:rPr b="0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689040" y="1212840"/>
            <a:ext cx="8223120" cy="1639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800" y="242856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Juliette Cunliffe: "</a:t>
            </a:r>
            <a:r>
              <a:rPr b="0" i="1" lang="en-ZA" sz="3200" spc="-1" strike="noStrike">
                <a:solidFill>
                  <a:srgbClr val="000000"/>
                </a:solidFill>
                <a:latin typeface="Calibri"/>
              </a:rPr>
              <a:t>The illustrated Directory of Dogs</a:t>
            </a: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" Colin Gower Enterprises, United Kingdom, 2007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CONTEN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3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4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Visit the veterinary clinic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5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Fleas and tic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6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Groom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7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lide 8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lide 11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Diet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Clean fresh water at all tim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Well balanced diet: protein and carbohydrat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Vitamins and minerals for healthy skin and coa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Fruit and vegetables are beneficial to the die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72428"/>
                </a:solidFill>
                <a:latin typeface="Calibri"/>
              </a:rPr>
              <a:t>Visit the veterinary clinic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ake your dog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for a good health chec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for vaccination against diseas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if it does not eat or drink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510160" y="2000160"/>
            <a:ext cx="2519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Fleas and tick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Parasites in  the environment jump onto pet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Grooming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Use a ‘hound glove’ or a suitable brus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rim the nai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rim hair between the pa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Keep the ears clea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Clean the teet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-60480" y="285840"/>
            <a:ext cx="8375760" cy="2023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15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Avoid obesity: no tid-bits between mea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ive him his own ‘safe place’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Provide a secure yar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Never leave a dog in a c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3168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-92160" y="469800"/>
            <a:ext cx="8858160" cy="1919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987640" y="2141640"/>
            <a:ext cx="54421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Basic obedience: the meaning of 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ood toilet ha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Walk with a le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ive plenty of praise if he has done something go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755640" y="2359080"/>
            <a:ext cx="16462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ZA" sz="5400" spc="-1" strike="noStrike">
                <a:solidFill>
                  <a:srgbClr val="072428"/>
                </a:solidFill>
                <a:latin typeface="Calibri"/>
              </a:rPr>
              <a:t>A dog is a friend for ever </a:t>
            </a:r>
            <a:br>
              <a:rPr sz="32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Content Placeholder 15" descr=""/>
          <p:cNvPicPr/>
          <p:nvPr/>
        </p:nvPicPr>
        <p:blipFill>
          <a:blip r:embed="rId1"/>
          <a:stretch/>
        </p:blipFill>
        <p:spPr>
          <a:xfrm>
            <a:off x="2933640" y="1935000"/>
            <a:ext cx="327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8:33:54Z</dcterms:created>
  <dc:creator/>
  <dc:description/>
  <dc:language>en-US</dc:language>
  <cp:lastModifiedBy/>
  <dcterms:modified xsi:type="dcterms:W3CDTF">2012-11-07T18:34:29Z</dcterms:modified>
  <cp:revision>1</cp:revision>
  <dc:subject/>
  <dc:title/>
</cp:coreProperties>
</file>