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3DD-D568-4D36-B0B0-CBA36A44712D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D9C-AD10-4362-B27D-CE6C14341FE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B99-8C66-4306-9D38-02CF2DE4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2AF-5481-468A-A3FD-99567195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5B3-D9E1-47DC-8408-C38CCED7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9FA-3839-4028-B190-A0717F7F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1EF-BD3A-4109-9989-D83F6CC3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C78-FD21-4AF9-AC63-B1AC1F03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762-3EC1-4780-BC3A-29493FE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1DC-EAFC-4941-BA36-4C95690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F20-ED8F-4708-AA2A-79ACA00B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2EA-26DF-4400-9C2A-EA3C057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95F3-029D-4DEC-9C1C-EA83BD1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D48-6C31-44D7-AB5E-BAA8990D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03B2-0FEE-4CC0-A4D5-77C1222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DB33-4557-4E53-9625-E1BF47B2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A16F-7682-43C4-BCA9-A0DAACB5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C34-2FE7-4620-AA8D-2E2510A5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EFA6-1A04-4725-AF5D-1F770F54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7C3-3510-498F-B9AA-871A473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6BB-C6A0-44E3-8E39-E557212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555-D134-4BF8-89E8-DBD79B84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C6E-376C-47E0-A67F-7D5EE117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431-5D82-425C-837E-92980A6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E6B-6F4E-48F2-8CC4-A439EA1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C5A-6DCC-4C99-B9C2-9752F23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FED5-7E8F-4670-9C02-87A5587E6D6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F9D-C81F-43DC-8B1E-4530E42E878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1F72-EE8D-4ADE-9DA1-698178D1121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A232-9C67-488C-8EF9-AAAEC0DC097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89040" y="927000"/>
            <a:ext cx="8180280" cy="3784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85960" y="4285800"/>
            <a:ext cx="6400800" cy="924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72428"/>
                </a:solidFill>
                <a:latin typeface="Calibri"/>
              </a:rPr>
              <a:t>“</a:t>
            </a:r>
            <a:r>
              <a:rPr b="1" lang="en-ZA" sz="4000" spc="-1" strike="noStrike">
                <a:solidFill>
                  <a:srgbClr val="072428"/>
                </a:solidFill>
                <a:latin typeface="Calibri"/>
              </a:rPr>
              <a:t>A dog is man’s best friend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57120" y="1474920"/>
            <a:ext cx="2286000" cy="143172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3791-1243-405C-B906-60EEB50DCA49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15" descr=""/>
          <p:cNvPicPr/>
          <p:nvPr/>
        </p:nvPicPr>
        <p:blipFill>
          <a:blip r:embed="rId1"/>
          <a:stretch/>
        </p:blipFill>
        <p:spPr>
          <a:xfrm>
            <a:off x="2933640" y="1935000"/>
            <a:ext cx="3276720" cy="438948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980C-85E0-4684-91AB-047DA523639F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2"/>
          <a:stretch/>
        </p:blipFill>
        <p:spPr>
          <a:xfrm>
            <a:off x="176040" y="628560"/>
            <a:ext cx="885852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689040" y="1212840"/>
            <a:ext cx="8223120" cy="1639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242856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Juliette Cunliffe: "</a:t>
            </a:r>
            <a:r>
              <a:rPr b="0" i="1" lang="en-ZA" sz="3200" spc="-1" strike="noStrike">
                <a:solidFill>
                  <a:srgbClr val="000000"/>
                </a:solidFill>
                <a:latin typeface="Calibri"/>
              </a:rPr>
              <a:t>The illustrated Directory of Dogs</a:t>
            </a: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" Colin Gower Enterprises, United Kingdom, 2007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A5B0-67D5-4A46-B52B-C91F01B521B7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CONTEN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3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4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Visit the veterinary clinic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5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Fleas and tic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6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Groom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7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lide 8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lide 11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AD9-400D-43E0-B5E7-A0CED895ACD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Diet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Clean fresh water at all tim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Well balanced diet: protein and carbohydrat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Vitamins and minerals for healthy skin and coa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Fruit and vegetables are beneficial to the die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CE6E-A481-4747-BB80-AD0086A3881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72428"/>
                </a:solidFill>
                <a:latin typeface="Calibri"/>
              </a:rPr>
              <a:t>Visit the veterinary clinic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ake your dog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for a good health chec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for vaccination against diseas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if it does not eat or drink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510160" y="2000160"/>
            <a:ext cx="2519280" cy="35719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D58-EBAB-4126-9A84-BA9EBC7D3FD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Fleas and tick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Parasites in  the environment jump onto pet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It causes diseas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et advice about products to get rid of i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Deworm puppies and dog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93FA-7D5D-4C25-A072-A1EEE05E6EA8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Grooming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Use a ‘hound glove’ or a suitable brus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rim the nai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rim hair between the pa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Keep the ears clea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Clean the teet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A31A-C152-4E3F-B354-31E0909392BE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168720" cy="2365200"/>
          </a:xfrm>
          <a:prstGeom prst="rect">
            <a:avLst/>
          </a:prstGeom>
          <a:ln w="0">
            <a:noFill/>
          </a:ln>
        </p:spPr>
      </p:pic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-60480" y="285840"/>
            <a:ext cx="8375760" cy="2023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15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Avoid obesity: no tid-bits between mea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ive him his own ‘safe place’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Provide a secure yar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Never leave a dog in a c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B00-394B-456A-833E-0FAD6BA5BD7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-92160" y="469800"/>
            <a:ext cx="8858160" cy="1919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539640" y="2155680"/>
            <a:ext cx="54421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Basic obedience: the meaning of 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ood toilet ha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Walk with a le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ive plenty of praise if he has done something go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516720" y="2359080"/>
            <a:ext cx="1646280" cy="297972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1582-B83B-4703-BCB3-6957D514ADE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549000"/>
            <a:ext cx="2319480" cy="5111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Buy a </a:t>
            </a:r>
            <a:r>
              <a:rPr b="1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puppy</a:t>
            </a:r>
            <a:r>
              <a:rPr b="0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 and your money will buy love unflinching than cannot lie</a:t>
            </a:r>
            <a:r>
              <a:rPr b="0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Placeholder 3" descr=""/>
          <p:cNvPicPr/>
          <p:nvPr/>
        </p:nvPicPr>
        <p:blipFill>
          <a:blip r:embed="rId1"/>
          <a:srcRect l="0" t="18104" r="0" b="18104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132" name="Slide Number Placeholder 1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229F-9B02-4904-9BEB-F330F730ACA4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8:33:54Z</dcterms:created>
  <dc:creator/>
  <dc:description/>
  <dc:language>en-US</dc:language>
  <cp:lastModifiedBy/>
  <dcterms:modified xsi:type="dcterms:W3CDTF">2012-11-11T19:11:32Z</dcterms:modified>
  <cp:revision>1</cp:revision>
  <dc:subject/>
  <dc:title/>
</cp:coreProperties>
</file>